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D10F-BDA1-4128-BCA4-1F38DC08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1A00-4BA9-4F26-B8DB-FB493FF0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D5F8-5A7F-46C7-A4D0-EEEC2FAA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4545-AD3A-476E-887D-557DC354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FB8-11A1-4A7D-9154-C593234C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F0F3-907C-4EEC-8D76-EBDA21D3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CAA5-899B-4D66-85CE-58950C6B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40E9-0603-4E23-AB8C-D79D8619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CE25-9A26-48FF-BFB6-AB71F077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BD2C-B1A9-46D0-BF32-FE217C5B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9BBF-F4B7-4CD3-BD36-5FC25EED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3DBE-BD05-4C6E-99E6-A8F261B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9D02-EEBD-436D-A285-C38C91F4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4586-9A07-4C4F-8B82-AD4A2E1C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3C1E-71EF-4453-823A-CD0E9667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ED9C-4DA4-413F-A535-EC37ECA2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E6DD-3D09-4D12-AA84-7738BC7B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CEAF-712C-4FE9-94EE-6FD9D00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6CDC-6741-4338-AD90-99AABA1F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8B49-1280-4BC0-AED0-8736D89E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CE7E-B853-460E-AB44-ADF16A3B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D8ED-C98B-4B17-A820-5410FA6C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A1A8-495A-4424-9D55-92590853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4A8B-CC5C-470C-B8CD-BFBCFBD7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4B03-DDCC-4A5F-B720-6033294B29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1CF9-4D06-4957-9251-40AC48BC21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Monotype Corsiva"/>
              </a:rPr>
              <a:t>Problem of the Week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and Jane have the same ratio of cats to dogs in their kennels. Bob has 3 cats for every 5 do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ptember, Jane had 25 dogs. How many cats did sh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anuary, Jane had 48 cats and dogs altogether. How many of Jane’s animals were dog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510320" y="297000"/>
            <a:ext cx="1440000" cy="17161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3276720" y="53341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1:12:43Z</dcterms:created>
  <dc:creator>krista.graham</dc:creator>
  <dc:description/>
  <dc:language>en-US</dc:language>
  <cp:lastModifiedBy>krista.graham</cp:lastModifiedBy>
  <dcterms:modified xsi:type="dcterms:W3CDTF">2008-10-06T16:36:43Z</dcterms:modified>
  <cp:revision>3</cp:revision>
  <dc:subject/>
  <dc:title>Problem of the Week</dc:title>
</cp:coreProperties>
</file>